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605-BE2C-4C05-ACF9-CEDE0F29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52D-FB55-47B6-B836-587C3A8A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165-7610-4FAB-95AE-1F5384FA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3D1-391C-4F50-90B3-69663D76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6375-5CFF-4C7A-9A1A-8064AEE9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4453-52CA-40F5-99ED-EB311A7A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57C8-E227-4AE6-9EB1-71B9143A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D931-BFB3-4EA2-9212-B84181AE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8087-F717-439A-A5C4-273DCE1F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F888-CAF0-419B-8A97-0C56C487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38BD-8B9E-4735-B65E-FB31FFB7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4C4-FD0F-44EB-B2B6-D876DCDD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938D-FEBF-4089-9E97-11DD49EE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218B-096E-4BEA-8E4C-4D97C94E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EB18-FA5D-4A50-8CE1-377D5FC1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7897-1EC2-4E7E-9D99-0267C6E2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5D21-6DCB-406A-8C96-10950CB9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59F-199B-4743-AB2F-08E0BD99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FC2-42FF-4286-BA24-76A6142E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634-BF83-47DA-8029-F2DFA73D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665-9DAB-47FA-8312-72958806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55D-A85C-4491-AF10-0E09D9C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8F4-2006-4412-917C-615CC40B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34C-8394-4E75-91CD-48B71854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BE6B-B2D0-4FDE-A734-2DA673819AE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B6D3-6A62-476C-9305-136D6F0A176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1ff7"/>
                </a:solidFill>
                <a:latin typeface="Arial Black"/>
              </a:rPr>
              <a:t>Ma Vi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Lewis Wal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1ff7"/>
                </a:solidFill>
                <a:latin typeface="Arial Black"/>
              </a:rPr>
              <a:t>Ma Vi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 Black"/>
              </a:rPr>
              <a:t>Bonjour je m’appelle Lew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Arial Black"/>
              </a:rPr>
              <a:t>J’habite </a:t>
            </a:r>
            <a:r>
              <a:rPr b="0" lang="en-US" sz="2800" spc="-1" strike="noStrike">
                <a:solidFill>
                  <a:srgbClr val="00cc00"/>
                </a:solidFill>
                <a:latin typeface="Arial Black"/>
              </a:rPr>
              <a:t>à</a:t>
            </a:r>
            <a:r>
              <a:rPr b="0" lang="en-GB" sz="2800" spc="-1" strike="noStrike">
                <a:solidFill>
                  <a:srgbClr val="00cc00"/>
                </a:solidFill>
                <a:latin typeface="Arial Black"/>
              </a:rPr>
              <a:t> Edimbourg en Ecosse 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J’adore Edimbour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979880" y="2349360"/>
            <a:ext cx="416412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81ff7"/>
                </a:solidFill>
                <a:latin typeface="Arial Black"/>
              </a:rPr>
              <a:t>Edimbourg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Edimbourg est dans le sud-est de l’Ecosse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8b17"/>
                </a:solidFill>
                <a:latin typeface="Arial Black"/>
              </a:rPr>
              <a:t>A Edimbourg il ya beaucoup de magasins, comme…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273e"/>
                </a:solidFill>
                <a:latin typeface="Arial Black"/>
              </a:rPr>
              <a:t>le supermarch</a:t>
            </a:r>
            <a:r>
              <a:rPr b="0" lang="en-US" sz="2000" spc="-1" strike="noStrike">
                <a:solidFill>
                  <a:srgbClr val="af273e"/>
                </a:solidFill>
                <a:latin typeface="Arial Black"/>
              </a:rPr>
              <a:t>é,le centre commercial,le magasin de jouet, etc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ce0d"/>
                </a:solidFill>
                <a:latin typeface="Arial Black"/>
              </a:rPr>
              <a:t>La plupast des magasins et des attractions touristiques sont sus Princes Street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165640" y="1981080"/>
            <a:ext cx="277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81ff7"/>
                </a:solidFill>
                <a:latin typeface="Arial Black"/>
              </a:rPr>
              <a:t>Le Ch</a:t>
            </a:r>
            <a:r>
              <a:rPr b="0" lang="en-US" sz="4400" spc="-1" strike="noStrike">
                <a:solidFill>
                  <a:srgbClr val="581ff7"/>
                </a:solidFill>
                <a:latin typeface="Arial Black"/>
              </a:rPr>
              <a:t>âteau d’Edimbourg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Le Ch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âteau d’ Edimbourg est l’une des attractions touristiques principa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 Black"/>
              </a:rPr>
              <a:t>Tous les jours á une heure au château d’Edimbourg il y  un tir de can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995640" y="3157560"/>
            <a:ext cx="38530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08:56:55Z</dcterms:created>
  <dc:creator>CEC</dc:creator>
  <dc:description/>
  <dc:language>en-US</dc:language>
  <cp:lastModifiedBy>CEC</cp:lastModifiedBy>
  <dcterms:modified xsi:type="dcterms:W3CDTF">2012-03-09T09:47:11Z</dcterms:modified>
  <cp:revision>2</cp:revision>
  <dc:subject/>
  <dc:title>Ma Ville</dc:title>
</cp:coreProperties>
</file>